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029-B179-47F8-B77E-7BBDDE8A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80F-C2BD-4241-842C-7FA3689A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344-1695-42BD-8A42-7D236E9B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2B4-7275-4DE1-8918-E0B74A86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B84-BC21-49D5-86B0-3A67B43B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EF1-6165-4CCF-BCF8-AF73EBB6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924-3EFF-4CD4-A971-D03C0B2B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45F-8FFD-47DD-AE7C-954D57E0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C8C-4987-4390-AA68-A51BE20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A6B-154E-4A0D-86AC-6AA5FF6D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C5C-4A38-40D7-9FC0-B293476B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14B-A046-4149-B93E-E133ADF7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708D-6C45-4CE3-A6B7-21C881D4612F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8408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E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gaton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ass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PHYS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ics Project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e4bff"/>
                </a:solidFill>
                <a:latin typeface="Comic Sans MS"/>
              </a:rPr>
              <a:t>Physics Motivation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he Installation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Very Large Laborator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MegaTon scale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the Neutrino Beam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Expected physics potentia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entative schedule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DB7-92C3-44E1-8A38-AC14C65289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25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A31-3023-4BFA-892C-4829A2F30CA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Specific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request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 from the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MEMPHY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Group</a:t>
            </a:r>
            <a:br>
              <a:rPr sz="2400"/>
            </a:b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to the European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FP7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Network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82880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Networking activities</a:t>
            </a:r>
            <a:r>
              <a:rPr b="0" lang="en-US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1) 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Physics potential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of Large Deep Underground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Experiments in both non- accelerator an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ccelerator sector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2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Underground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Laboratories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or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“Mega” detector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best strategie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for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 excav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, access a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equipment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(ventilation, air-conditioning, power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supply, etc.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3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Safety optimis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in Very Large Undergrou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acilitie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C73-C654-4491-A46E-88EF123370A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83808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B) Joint research activit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1) Development, in close connection with industry (Photonis)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cheap photo-detector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ptimized for covering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large area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suitable to detect Cerenkov light (visible + UV) with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high efficiency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vacuum photo-tube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”standard” (with dynodes) PM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“hybrid” (with PIN or APD diodes) HPD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gaseous photo-tubes,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“wall paper” shaped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CsI photo-cathode (Ultra-Violet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bi-alcali photo-cathode (visible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2) Associate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ultiplex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power supply an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integrat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electron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025-A134-4047-B0C8-A3E84E0232D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C)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Design Stud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the excavation 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3 to 5 “shafts”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f about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250000 m3 each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in the central region of the Fréjus Tunnel,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associated equipment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and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echanics of the detector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module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precise “in situ” investigation of the rock quality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optimisation of the shafts shape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c) optimisation (choice) of the type of local acces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d) definition of the required equipments : ventilation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air-conditioning, water purification “factory”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lectric power supply, etc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) definition of the best solution for the water containment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for the photo-detectors support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E08-E3E9-49A0-9C34-8204F863F23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533520"/>
            <a:ext cx="7315200" cy="81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inancial contributions asked to FP7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s considered from the MEMPHYS project point of view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10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Networking Activitie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35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Joint Research Activ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R&amp;D for Photodetectors and electronics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5 M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Design Stud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f the Laborator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nd the mechanics of the detector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5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61B-FFD3-4821-B465-A6E691ACD25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4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7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2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7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24200" y="1371600"/>
            <a:ext cx="2241720" cy="2825640"/>
            <a:chOff x="3724200" y="1371600"/>
            <a:chExt cx="2241720" cy="2825640"/>
          </a:xfrm>
        </p:grpSpPr>
        <p:sp>
          <p:nvSpPr>
            <p:cNvPr id="62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724200" y="1371600"/>
              <a:ext cx="2241720" cy="2792520"/>
              <a:chOff x="3724200" y="1371600"/>
              <a:chExt cx="2241720" cy="2792520"/>
            </a:xfrm>
          </p:grpSpPr>
          <p:sp>
            <p:nvSpPr>
              <p:cNvPr id="64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33720" y="16099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4200" y="29466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301680" y="990720"/>
            <a:ext cx="4465440" cy="4792680"/>
            <a:chOff x="301680" y="990720"/>
            <a:chExt cx="4465440" cy="47926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301680" y="4581720"/>
              <a:ext cx="227124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6200" y="1825920"/>
              <a:ext cx="21816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120" y="320364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5265720"/>
              <a:ext cx="183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33200" y="525312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4114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046-E8F3-4C8B-9EF5-369A2709F2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952-B8C7-4D79-A7D7-D872D70E87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1040" y="1386000"/>
            <a:ext cx="843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4800 m.w.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where the quality of the rock is the best !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of excavating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4495680" cy="311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3520" y="3657600"/>
            <a:ext cx="3124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stimated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cos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≈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80 M€ x Nb of shaf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ABF-8825-487C-9FFC-C577F6666C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6A9-2C6C-4074-9315-7E76D64F69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A74-9F03-49D5-A971-506EC0AB0B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59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</a:t>
            </a:r>
            <a:br>
              <a:rPr sz="32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non accelerator physics</a:t>
            </a:r>
            <a:br>
              <a:rPr sz="2800"/>
            </a:b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ucleon decay</a:t>
            </a:r>
            <a:r>
              <a:rPr b="0" lang="en-GB" sz="2400" spc="-1" strike="noStrike" baseline="30000">
                <a:solidFill>
                  <a:srgbClr val="3e4b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    up to </a:t>
            </a:r>
            <a:r>
              <a:rPr b="0" lang="ja-JP" sz="2000" spc="-1" strike="noStrike">
                <a:solidFill>
                  <a:srgbClr val="e31d18"/>
                </a:solidFill>
                <a:latin typeface="Arial"/>
              </a:rPr>
              <a:t>～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e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   few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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K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with a detection threshold below 6MeV 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eutrino burs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150,00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SN at 10kpc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5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Andromeda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Relic Neutrino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past 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 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pur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water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Gd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loaded water)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CA6-52B7-4683-A925-6E0EF21719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867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 </a:t>
            </a:r>
            <a:r>
              <a:rPr b="0" lang="en-GB" sz="2000" spc="-1" strike="noStrike">
                <a:solidFill>
                  <a:srgbClr val="2c2bdf"/>
                </a:solidFill>
                <a:latin typeface="Comic Sans MS"/>
              </a:rPr>
              <a:t>(continued)</a:t>
            </a:r>
            <a:br>
              <a:rPr sz="48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B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ccelerator physics</a:t>
            </a: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PMNS matrix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arameters measurement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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&lt; 0.7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@90%CL (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beam 2.5Mt.y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-&gt;  for 40°&lt;|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|&lt;140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violation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discovery @ &gt; 3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 at </a:t>
            </a:r>
            <a:r>
              <a:rPr b="0" lang="en-GB" sz="2000" spc="-1" strike="noStrike">
                <a:solidFill>
                  <a:srgbClr val="3e4bff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3e4bff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= 1° and 10yrs of Beta Beam and Super Beam 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32C-C55B-40A2-A9A3-CE39622941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60640" y="299412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3228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84720" y="299556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8472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5040" y="2717640"/>
            <a:ext cx="19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2600" y="2717640"/>
            <a:ext cx="32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A5A-DEBA-43FA-B8D0-0D7A8AF6E13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J.E Campagne</cp:lastModifiedBy>
  <dcterms:modified xsi:type="dcterms:W3CDTF">2005-11-14T08:44:06Z</dcterms:modified>
  <cp:revision>32</cp:revision>
  <dc:subject/>
  <dc:title>Présentation PowerPoint</dc:title>
</cp:coreProperties>
</file>